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35C-329F-4C9E-B451-3A64D06F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1AC-88FF-445B-AE33-4835656D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DC5-82C6-4146-9FE1-B7FD7F4F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A66-FC20-4B1E-BD90-0DFE4B90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421-EC61-4534-906D-84EEE07D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4CB-AC2F-4257-940B-C51A449E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316-08DA-4F6F-9227-D59731ED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E40-07AC-4107-8842-D85FBAE7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046-028C-4F6D-B8B4-0BC651D5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4B9-FB9E-4BEB-8757-1205AC28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91F-C407-48A8-B07E-F461FDA2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A39-E3FD-4673-9F7B-D07508B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5573-4078-4CBA-A9D1-E51F7830B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s and Traditions in German Speaking Countries: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Noah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oah Taylor, wrote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ermanfoods.org/consumer/facts/guidetoalcoholicbeverages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ermanfoods.org/consumer/facts/guidetobreads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ermanfoods.org/consumer/facts/guidetosausages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otos are from the sam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Bever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round 5,000 different types of German Be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r is the most popular adult be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r is drunk with meals in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s also like to drink coffee, tea, juices, and mineral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5" descr="PPT image 1.jpg"/>
          <p:cNvPicPr/>
          <p:nvPr/>
        </p:nvPicPr>
        <p:blipFill>
          <a:blip r:embed="rId1"/>
          <a:srcRect l="0" t="-6005" r="0" b="-6005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German bread is made of rye f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at flour is sometimes added to obtain a fluffier tex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seeds are added to enhance the taste of the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d is usually eaten as an open-faced sandwich with cheese, ham, and bu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five different categories of German cheese: hard, semi-hard, semi-soft, soft, and fres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600 types of German chee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ver 60% of the 600 cheeses come from Bav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er is strictly regula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er must undergo tests regarding taste, smell, texture, water distribution and spreadabil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7" descr="PPT image 2.jpg"/>
          <p:cNvPicPr/>
          <p:nvPr/>
        </p:nvPicPr>
        <p:blipFill>
          <a:blip r:embed="rId1"/>
          <a:srcRect l="-29139" t="0" r="-2913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ts and Sau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round 1500 different kinds of German sa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type of sausages are scalded or boiled sau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German eats about 67 lbs/26 Kg of meat products every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6" descr="PPT image 3.jpg"/>
          <p:cNvPicPr/>
          <p:nvPr/>
        </p:nvPicPr>
        <p:blipFill>
          <a:blip r:embed="rId1"/>
          <a:srcRect l="0" t="-22240" r="0" b="-2224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a and Potato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ätzle is the most common form of pa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terally translated as "little sparrow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to pancakes are popular in Germany; they are occasionally served with applesa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se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mmi Bear was invented in Germany in 19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 gingerbread is made with many unique ingredients including hazelnuts and o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ingerbread-makers guild was formed in Nurnberg in 16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like to eat many other deserts including cheesecake, marzipan, and Black Forest C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ounds of meat does the average German eat each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e Gummi Bear inv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1:42:51Z</dcterms:created>
  <dc:creator>SCSadmin</dc:creator>
  <dc:description/>
  <dc:language>en-US</dc:language>
  <cp:lastModifiedBy>Noah Taylor</cp:lastModifiedBy>
  <dcterms:modified xsi:type="dcterms:W3CDTF">2012-01-06T02:28:14Z</dcterms:modified>
  <cp:revision>10</cp:revision>
  <dc:subject/>
  <dc:title>Customs and Traditions in German Speaking Countries</dc:title>
</cp:coreProperties>
</file>